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025-0941-4720-A027-A25DBED6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9DB-CEAC-4C5D-970E-0D933E5F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43D-DCE6-4F3E-99F3-FA4C4A96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D96-7897-4365-A4D4-0CE278D3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63A-3BBD-4F9B-B0A8-82C738F4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DD1-0FD7-4D3A-A48D-68EBA969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8AE-0DB0-4C42-BFCF-577446E1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653-993C-4018-BD91-347FDA0C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C91-7095-4196-B6A3-49105FAA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EAF-A796-4148-9F89-D9D68F07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DEA-8186-4081-B42B-50A307DA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14E3-E0B6-4C81-AABC-C77E4C28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0630-4A3A-4D95-832B-3C943CC1F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gency FB"/>
              </a:rPr>
              <a:t>Ancient Greece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yslynn Bre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city state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6" descr="PHILOSOPHY.jpg"/>
          <p:cNvPicPr/>
          <p:nvPr/>
        </p:nvPicPr>
        <p:blipFill>
          <a:blip r:embed="rId1"/>
          <a:stretch/>
        </p:blipFill>
        <p:spPr>
          <a:xfrm>
            <a:off x="1523880" y="2057400"/>
            <a:ext cx="6553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3" descr="peninsula.jpg"/>
          <p:cNvPicPr/>
          <p:nvPr/>
        </p:nvPicPr>
        <p:blipFill>
          <a:blip r:embed="rId1"/>
          <a:srcRect l="3196" t="3273" r="4261" b="4909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ar between Athens and Spart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warr!!!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kind of government that is run by a small group of peo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oligaarchy.jpg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harbor!!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cropolis.jp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4" descr="agora.jp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re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assembly.jpg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itezen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olony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democracy.jpg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their own decisions in court of law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jury.jpg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monarchy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7T20:33:49Z</dcterms:modified>
  <cp:revision>107</cp:revision>
  <dc:subject/>
  <dc:title>Ancient Greece</dc:title>
</cp:coreProperties>
</file>